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6F4-EF44-4976-87C4-3C3A59AC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0A7-C79B-47D6-9A68-198EDB0B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996-78D6-4782-AC42-7DDCA759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933-DC1A-4694-A906-51D36B09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2E4-B087-4DAC-AEF7-CA43832E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2EC-148B-46BE-A1CA-52BC3A1F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4C9-9B99-4B11-99A5-0BF47EF5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D62-5C92-4A98-B5BD-370587F5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BA4-94A8-437A-9104-BC14538D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743-E34D-4197-91B5-E73779F5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05B-C63B-4825-9C3A-125BD1BF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E8A-93CB-405F-9EC1-C45A0893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28FA-E699-4754-989D-8DDEC3C3AA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916360" y="242100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1640" y="227628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95640" y="3141360"/>
            <a:ext cx="50421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50920" y="4637160"/>
            <a:ext cx="40305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835280" y="270828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Mesut</cp:lastModifiedBy>
  <dcterms:modified xsi:type="dcterms:W3CDTF">2017-08-10T17:07:15Z</dcterms:modified>
  <cp:revision>843</cp:revision>
  <dc:subject/>
  <dc:title>Free PPT Backgrounds</dc:title>
</cp:coreProperties>
</file>