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3B3-57D3-4BBF-BB22-363103371E7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freepptbackgrounds.net 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–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 We are waiting you to visit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6F9-7E10-415F-99BA-9DC73ECFB9C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968-7D5A-4B82-91A8-BCA45DA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948-7159-47D8-A009-B9BA7FFF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AEB-F862-4766-9D9F-FD51FF11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915-596D-4ED6-A57D-646627D9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062-8833-46B8-BE14-22DC1EB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201-3A0C-465C-B697-03311CAB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8C9-2120-4695-AE89-9C9C4E9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EEF-FE9C-48EC-BB4B-6CF5D49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F18-FBB9-4F5A-8668-142A364F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FAF-9BD4-4E70-96D8-E5F39AA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472-391C-4750-B42B-D6B06A0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3A1-97D2-457E-8B21-AD9221C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C60-75EB-45E4-8938-8E3E9FA834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Resim" descr="pptlogo.png"/>
          <p:cNvPicPr/>
          <p:nvPr/>
        </p:nvPicPr>
        <p:blipFill>
          <a:blip r:embed="rId2"/>
          <a:stretch/>
        </p:blipFill>
        <p:spPr>
          <a:xfrm>
            <a:off x="2916360" y="2924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0" y="2349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3213000"/>
            <a:ext cx="50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443700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0360" y="2637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icrosoft Office Kullanıcısı</cp:lastModifiedBy>
  <dcterms:modified xsi:type="dcterms:W3CDTF">2018-07-02T08:13:48Z</dcterms:modified>
  <cp:revision>871</cp:revision>
  <dc:subject/>
  <dc:title>Free PPT Backgrounds</dc:title>
</cp:coreProperties>
</file>