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AB56-6BD1-40A0-B0F5-FF2A50B7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90FA-0146-4B30-97C2-14741B2B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5EFF-B440-420B-A031-A2058E52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E3F9-F732-4C94-A0E0-109ACA85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B9B8-AA6B-4763-BBE1-C1A48327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C865-BCD3-4F62-ABD9-CA5C8BE6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3C33-5DBD-4EA7-AD7F-C0D05721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EF77-24CB-492F-A070-8BA7995C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2661-C987-4693-BD55-B436A010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0C38-E17F-44D2-B4E2-F5EA49E1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01C7-F354-4C79-B7B4-BA572B89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CF40-8528-4425-949A-B121D301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FA25-3734-4E77-B743-C20D58A16D7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2700360" y="249228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Hiko PC</cp:lastModifiedBy>
  <dcterms:modified xsi:type="dcterms:W3CDTF">2014-09-23T05:42:16Z</dcterms:modified>
  <cp:revision>809</cp:revision>
  <dc:subject/>
  <dc:title>Free PPT Backgrounds</dc:title>
</cp:coreProperties>
</file>