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3F1B-619B-43C3-BC09-3AA5EA8C1551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www.freepptbackgrounds.net </a:t>
            </a:r>
            <a:r>
              <a:rPr b="0" lang="mr-IN" sz="1200" spc="-1" strike="noStrike">
                <a:solidFill>
                  <a:srgbClr val="000000"/>
                </a:solidFill>
                <a:latin typeface="Calibri"/>
                <a:ea typeface="Mangal"/>
              </a:rPr>
              <a:t>–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 We are waiting you to visit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ayt Numarası Yer Tutucus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B807-0DB6-4E18-9F2F-3919DF401A17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D3F-EB48-4F4B-8E5E-FE1D306D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94AF-A129-4052-A222-5F9CBB21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1656-CDC2-428B-9C5F-5926FA47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C661-6652-43DA-9F97-F662634D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235A-C7F4-4374-82D4-EDF273ED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7F5-1FE2-494F-BF5E-2C722C52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559-2D4B-459D-ABF1-51B86FCC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9C1-F355-4181-A6B8-8F2FCF87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DDE5-CA64-49D1-93AA-B009B76F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B055-A096-4177-B961-391F22C5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FE0-2737-4424-8F8B-0CA98D17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F5C2-85DA-4505-8ED2-34D26B96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4C32-1705-4131-80B1-9AD5810860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4 Resim" descr="pptlogo.png"/>
          <p:cNvPicPr/>
          <p:nvPr/>
        </p:nvPicPr>
        <p:blipFill>
          <a:blip r:embed="rId2"/>
          <a:stretch/>
        </p:blipFill>
        <p:spPr>
          <a:xfrm>
            <a:off x="2916360" y="292428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2000" y="2349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56000" y="3213000"/>
            <a:ext cx="50421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85800" y="4437000"/>
            <a:ext cx="40305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03280" y="169992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700360" y="2637000"/>
            <a:ext cx="50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Microsoft Office Kullanıcısı</cp:lastModifiedBy>
  <dcterms:modified xsi:type="dcterms:W3CDTF">2018-07-02T08:13:48Z</dcterms:modified>
  <cp:revision>871</cp:revision>
  <dc:subject/>
  <dc:title>Free PPT Backgrounds</dc:title>
</cp:coreProperties>
</file>