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0FE0-C848-4E66-AA69-B07C130AE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C1A9-87B9-4547-8D82-829CB939D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A3A8-05CE-4896-A384-C196872C9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1510-47B4-4ECC-8BE0-76A285BAA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3554-AA52-4CB1-B1CC-17E5BC6E9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A3B6-8AD1-44CA-9C6F-0C38F95B1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FC71-E15F-4D41-8A3F-E1948504A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913C-357F-41B6-978A-EA4DC5CB0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197A-4B8B-4748-9FAD-F3384942A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2AEF-CDFF-40D6-A320-8E3D0A09C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154D-D284-45E0-8427-0FAB8789B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D1A1-A6C9-4332-A0AB-15089C332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523FB-7D6E-459A-BF80-CB1B5057EE2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4 Resim" descr="pptlogo.png"/>
          <p:cNvPicPr/>
          <p:nvPr/>
        </p:nvPicPr>
        <p:blipFill>
          <a:blip r:embed="rId2"/>
          <a:stretch/>
        </p:blipFill>
        <p:spPr>
          <a:xfrm>
            <a:off x="2916360" y="2421000"/>
            <a:ext cx="340992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1640" y="2276280"/>
            <a:ext cx="34765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04040"/>
                </a:solidFill>
                <a:latin typeface="Arial"/>
              </a:rPr>
              <a:t>Slide Ma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995640" y="3141360"/>
            <a:ext cx="504216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Free Powerpoint Templ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Visit to: </a:t>
            </a:r>
            <a:r>
              <a:rPr b="0" lang="tr-TR" sz="1600" spc="-1" strike="noStrike">
                <a:solidFill>
                  <a:srgbClr val="ffc000"/>
                </a:solidFill>
                <a:latin typeface="Arial"/>
              </a:rPr>
              <a:t>www.freepptbackgrounds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Sel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404040"/>
                </a:solidFill>
                <a:latin typeface="Arial"/>
              </a:rPr>
              <a:t>Categories &amp; Colors &amp; Popular Temp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Select your liked template desig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Download free and use it your presen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And Share our web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250920" y="4637160"/>
            <a:ext cx="403056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Group Presentation Ov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Project Descriptio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A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1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95280" y="1196640"/>
            <a:ext cx="34765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04040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1835280" y="2708280"/>
            <a:ext cx="504036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Free Powerpoint Templ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Visit to: </a:t>
            </a:r>
            <a:r>
              <a:rPr b="0" lang="tr-TR" sz="1600" spc="-1" strike="noStrike">
                <a:solidFill>
                  <a:srgbClr val="ffc000"/>
                </a:solidFill>
                <a:latin typeface="Arial"/>
                <a:ea typeface="Arial"/>
              </a:rPr>
              <a:t>www.freepptbackgrounds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Sel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404040"/>
                </a:solidFill>
                <a:latin typeface="Arial"/>
                <a:ea typeface="Arial"/>
              </a:rPr>
              <a:t>Categories &amp; Colors &amp; Popular Temp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Select your liked template desig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Download free and use it your presen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And Share our web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Free PPT Backgrounds</dc:creator>
  <dc:description>Free PPT Backgrounds
http://www.freepptbackgrounds.net</dc:description>
  <dc:language>en-US</dc:language>
  <cp:lastModifiedBy>Mesut</cp:lastModifiedBy>
  <dcterms:modified xsi:type="dcterms:W3CDTF">2017-08-10T17:07:15Z</dcterms:modified>
  <cp:revision>843</cp:revision>
  <dc:subject/>
  <dc:title>Free PPT Backgrounds</dc:title>
</cp:coreProperties>
</file>