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A21-7A9C-4361-8F27-843C69E4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709-96DE-4689-AFCC-3D58AE5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6C5-17B8-4563-BD5B-B6E4CBE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FA0-E6BA-401B-B640-C9D603BB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233-58C0-45AE-BDE1-03F82AF9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C30-A0B4-47C7-9324-0E4B10B9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3F6-F11C-4A05-9C67-8BE57E7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E1C-9184-4EAE-B5C2-7D405BE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EDA-EC50-49C6-AE4A-CA5BADC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B1B-9F53-4B4E-97BF-5D56682F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522-4121-43AA-90FA-7DCA347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6AE-59F7-4411-89AA-D941E36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9E8-EA20-408E-A4D1-E5996ED59B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843280" y="2349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3640" y="2420640"/>
            <a:ext cx="3476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360" y="342900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5800" y="4508640"/>
            <a:ext cx="40305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692360" y="2421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esut</cp:lastModifiedBy>
  <dcterms:modified xsi:type="dcterms:W3CDTF">2017-09-25T18:48:48Z</dcterms:modified>
  <cp:revision>829</cp:revision>
  <dc:subject/>
  <dc:title>Free PPT Backgrounds</dc:title>
</cp:coreProperties>
</file>