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15E-95E9-457E-8129-BFF27887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214-3067-4C35-AAB8-54D7F0B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7BA-9FB0-449E-B76D-A6FDD64F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FB3-8DC5-4504-B2D7-F10FEC93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276-FF58-4DD3-8946-8C242B34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6A7-61CA-4A3C-ABA1-EF8AB94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3DC-96F0-4FCD-BE9D-7220867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53A-A071-4462-B638-3772BEF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010-B18E-4270-8CD8-9072CAB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C91-5698-415B-B777-38A6582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301-CC17-4092-9874-77C00C5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801-4717-46E3-A426-7D84F0D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19B3-5835-4EDE-9D94-879C142A90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4-09-23T05:42:16Z</dcterms:modified>
  <cp:revision>809</cp:revision>
  <dc:subject/>
  <dc:title>Free PPT Backgrounds</dc:title>
</cp:coreProperties>
</file>