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E90-565E-47AF-936F-7E371907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4F6-2462-4BA3-9383-5ABC2D2A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B2E-CA0B-49F6-82CA-DDD90540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25C-56DD-4D26-AC43-9391C421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185-9D7D-42B7-8CA9-C8065DD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F4D-95C4-43D0-9116-E486162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ECF-F26E-4BEC-A7B9-22507A2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091-AA95-40BB-8073-3026357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118-B31E-4BD0-82A9-6BB268CB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328-09AE-4308-B74B-7D1BF71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C8E-56C0-40A0-BE83-CA6E62A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A23-94C6-4BDA-A1C3-37380F8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3F3-FB2C-4C3F-AAC7-B8FD7AAD88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843280" y="2349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3640" y="2420640"/>
            <a:ext cx="3476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360" y="342900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5800" y="4508640"/>
            <a:ext cx="40305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692360" y="2421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9-25T18:48:48Z</dcterms:modified>
  <cp:revision>829</cp:revision>
  <dc:subject/>
  <dc:title>Free PPT Backgrounds</dc:title>
</cp:coreProperties>
</file>