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D2C-C72B-4081-985B-B7ACDD9F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5C2-A55F-4706-AE4C-836098A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16C-72F6-4547-A659-173B61E0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9DF-2914-4551-BD51-A6C6B0A6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382-A8F2-400D-AFD5-5263BB8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40A-77A1-48CA-BD59-B121226C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339-9ECE-4F96-BDAD-067977D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A43-4646-4C4B-AD04-DF26E9DA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D78-4E2A-48AB-A28A-4A9225E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521-0E54-40E5-A823-65AA1C6C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E8F-C593-4648-8FB3-4ABCD6EF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D3B-2AD2-45F4-9F27-CB5C82A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DBF3-81D4-41D8-8915-26860FCCD6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sim" descr="pptlogo.png"/>
          <p:cNvPicPr/>
          <p:nvPr/>
        </p:nvPicPr>
        <p:blipFill>
          <a:blip r:embed="rId2"/>
          <a:stretch/>
        </p:blipFill>
        <p:spPr>
          <a:xfrm>
            <a:off x="2700360" y="2492280"/>
            <a:ext cx="3409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34765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Slide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5041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716360" y="4437000"/>
            <a:ext cx="40309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Group Presentation 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Project Descrip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404040"/>
                </a:solidFill>
                <a:latin typeface="Arial"/>
                <a:ea typeface="Arial"/>
              </a:rPr>
              <a:t>Sub Topic 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1196640"/>
            <a:ext cx="3476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40404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87640" y="2852640"/>
            <a:ext cx="5040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040"/>
                </a:solidFill>
                <a:latin typeface="Arial"/>
              </a:rPr>
              <a:t>Free Powerpoint Templ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Visit to: </a:t>
            </a:r>
            <a:r>
              <a:rPr b="0" lang="tr-TR" sz="1600" spc="-1" strike="noStrike">
                <a:solidFill>
                  <a:srgbClr val="ffc000"/>
                </a:solidFill>
                <a:latin typeface="Arial"/>
                <a:ea typeface="Arial"/>
              </a:rPr>
              <a:t>www.freepptbackgrounds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404040"/>
                </a:solidFill>
                <a:latin typeface="Arial"/>
                <a:ea typeface="Arial"/>
              </a:rPr>
              <a:t>Categories &amp; Colors &amp; Popular Temp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Select your liked templat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Download free and use it your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404040"/>
                </a:solidFill>
                <a:latin typeface="Arial"/>
                <a:ea typeface="Arial"/>
              </a:rPr>
              <a:t>And Share our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Free PPT Backgrounds</dc:creator>
  <dc:description>Free PPT Backgrounds
http://www.freepptbackgrounds.net</dc:description>
  <dc:language>en-US</dc:language>
  <cp:lastModifiedBy>Hiko PC</cp:lastModifiedBy>
  <dcterms:modified xsi:type="dcterms:W3CDTF">2014-09-23T05:42:16Z</dcterms:modified>
  <cp:revision>809</cp:revision>
  <dc:subject/>
  <dc:title>Free PPT Backgrounds</dc:title>
</cp:coreProperties>
</file>