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4B7C-BBF3-466B-9C0B-017A98A0E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AD32-0FBB-4C08-85B0-680ED53A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5D7B-A585-4B2E-9328-B686E8A8E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F91B-049E-43B9-959C-F44F1689C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D860-77BB-4442-9737-4BDF37ED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3E0B-1907-490D-AE88-D9E541DD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26E1-854D-4A63-91F7-9FD0B6A4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1E51-89DF-4F4D-951B-EE75C526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37ED-34BD-4B6E-9787-76D18678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F3EA-40F8-4F78-9E32-B759C59A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4E80-D5DE-40EE-BE71-19FD8491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460C-62D1-459E-81FA-4EB13EB6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866D-E5C6-47F8-B21E-0956E3D03AF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 Resim" descr="pptlogo.png"/>
          <p:cNvPicPr/>
          <p:nvPr/>
        </p:nvPicPr>
        <p:blipFill>
          <a:blip r:embed="rId2"/>
          <a:stretch/>
        </p:blipFill>
        <p:spPr>
          <a:xfrm>
            <a:off x="2843280" y="2349360"/>
            <a:ext cx="34099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03640" y="2420640"/>
            <a:ext cx="34768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284360" y="3429000"/>
            <a:ext cx="5041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685800" y="4508640"/>
            <a:ext cx="403056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95280" y="119664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1692360" y="2421000"/>
            <a:ext cx="5040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  <a:ea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  <a:ea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Free PPT Backgrounds</dc:creator>
  <dc:description>Free PPT Backgrounds
http://www.freepptbackgrounds.net</dc:description>
  <dc:language>en-US</dc:language>
  <cp:lastModifiedBy>Mesut</cp:lastModifiedBy>
  <dcterms:modified xsi:type="dcterms:W3CDTF">2017-09-25T18:48:48Z</dcterms:modified>
  <cp:revision>829</cp:revision>
  <dc:subject/>
  <dc:title>Free PPT Backgrounds</dc:title>
</cp:coreProperties>
</file>