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5F3B-E1D0-4440-83D5-5C776283F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820E-54B4-4A0D-9D01-6584F9419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DAF3-F03D-48D5-91C3-65B24A5B6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E591-6138-4819-A0F5-12680EC9B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2DB3-54D7-4FED-8BE3-FFDDE0690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7DE4-4423-493F-BF2D-ED42B5514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A626-A001-49D2-88F2-F58E0DD40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7DC9-3D0D-41B8-8A22-D456ED761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3779-75AF-46C1-9B5A-4B0D21021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C160-84B2-4E4D-99FF-98397ABE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B943-FAEB-4472-8878-5379FAC9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5D5D-14EB-439D-A4BA-90CB3F4A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17D07-E77B-4F5A-AED6-15C5E098AA6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4 Resim" descr="pptlogo.png"/>
          <p:cNvPicPr/>
          <p:nvPr/>
        </p:nvPicPr>
        <p:blipFill>
          <a:blip r:embed="rId2"/>
          <a:stretch/>
        </p:blipFill>
        <p:spPr>
          <a:xfrm>
            <a:off x="2916360" y="2421000"/>
            <a:ext cx="340992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1640" y="2276280"/>
            <a:ext cx="34765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Slide M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995640" y="3141360"/>
            <a:ext cx="504216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250920" y="4637160"/>
            <a:ext cx="403056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Group Presentation 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Project Descriptio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1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95280" y="1196640"/>
            <a:ext cx="34765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1835280" y="2708280"/>
            <a:ext cx="504036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  <a:ea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  <a:ea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Free PPT Backgrounds</dc:creator>
  <dc:description>Free PPT Backgrounds
http://www.freepptbackgrounds.net</dc:description>
  <dc:language>en-US</dc:language>
  <cp:lastModifiedBy>Mesut</cp:lastModifiedBy>
  <dcterms:modified xsi:type="dcterms:W3CDTF">2017-08-10T17:07:15Z</dcterms:modified>
  <cp:revision>843</cp:revision>
  <dc:subject/>
  <dc:title>Free PPT Backgrounds</dc:title>
</cp:coreProperties>
</file>