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1977-903F-469C-A8D4-9CE75612818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www.freepptbackgrounds.net </a:t>
            </a:r>
            <a:r>
              <a:rPr b="0" lang="mr-IN" sz="1200" spc="-1" strike="noStrike">
                <a:solidFill>
                  <a:srgbClr val="000000"/>
                </a:solidFill>
                <a:latin typeface="Calibri"/>
                <a:ea typeface="Mangal"/>
              </a:rPr>
              <a:t>–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 We are waiting you to visit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DD14-EA24-43F9-93E4-9C692AEFBEE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16F-8B72-4483-A845-15808D9B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F17-BD88-420A-94C3-F72E2AE0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39B-5164-42A8-8AC6-9A599579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377-7C93-472A-BB0A-D5F4EC87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D5C-06F5-4E63-9AEE-E950245D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572-D3A3-404C-9DC6-E004F47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D59-BE55-4EF9-8A80-4EB2DD09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332-76EB-4EF6-802B-75E3F705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7AC-F8F0-405F-8A5D-F460A124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FC2-1DF0-4EE7-A306-093B67F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2F1-BEA9-48A1-B15F-211DB5A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226-DF7A-4AE2-AC1B-D095A82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35A5-3DF8-4C9C-AEB1-2DDE851DB2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Resim" descr="pptlogo.png"/>
          <p:cNvPicPr/>
          <p:nvPr/>
        </p:nvPicPr>
        <p:blipFill>
          <a:blip r:embed="rId2"/>
          <a:stretch/>
        </p:blipFill>
        <p:spPr>
          <a:xfrm>
            <a:off x="2916360" y="2924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0" y="2349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56000" y="3213000"/>
            <a:ext cx="50421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5800" y="4437000"/>
            <a:ext cx="40305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3280" y="169992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00360" y="2637000"/>
            <a:ext cx="50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Microsoft Office Kullanıcısı</cp:lastModifiedBy>
  <dcterms:modified xsi:type="dcterms:W3CDTF">2018-07-07T05:28:56Z</dcterms:modified>
  <cp:revision>872</cp:revision>
  <dc:subject/>
  <dc:title>Free PPT Backgrounds</dc:title>
</cp:coreProperties>
</file>