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EF8D-61DC-4C9A-BC97-F788C8D1306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www.freepptbackgrounds.net </a:t>
            </a:r>
            <a:r>
              <a:rPr b="0" lang="mr-IN" sz="1200" spc="-1" strike="noStrike">
                <a:solidFill>
                  <a:srgbClr val="000000"/>
                </a:solidFill>
                <a:latin typeface="Calibri"/>
                <a:ea typeface="Mangal"/>
              </a:rPr>
              <a:t>–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 We are waiting you to visit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62BC-600F-48B2-8059-4B208E51427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F05-DAD1-4576-84F5-ACCCBFE6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0D0-BC78-4386-BEDA-2291CA3C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3A8-B364-4204-B22C-77240564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FC1-9E47-47A5-AC7D-E5C9F5B1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869-D501-47B4-AB6B-039DA883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F2A-F33A-4A64-B356-C4739B49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2BB-1D11-4236-93E5-0F45B016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6D5-AB32-4428-8428-2257DD99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EDA-DB60-4DE1-9FAB-0947690C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EE5-0B80-41E0-90B9-82F0447A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CC7-C285-4C4C-A0B2-C9FA9AB5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D1E-FD26-41A7-ABFE-DD2D4C5C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A466-A054-4F43-8AF7-C76BE23023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 Resim" descr="pptlogo.png"/>
          <p:cNvPicPr/>
          <p:nvPr/>
        </p:nvPicPr>
        <p:blipFill>
          <a:blip r:embed="rId2"/>
          <a:stretch/>
        </p:blipFill>
        <p:spPr>
          <a:xfrm>
            <a:off x="2916360" y="2924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2000" y="2349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56000" y="3213000"/>
            <a:ext cx="50421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85800" y="4437000"/>
            <a:ext cx="40305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03280" y="169992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700360" y="2637000"/>
            <a:ext cx="50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Microsoft Office Kullanıcısı</cp:lastModifiedBy>
  <dcterms:modified xsi:type="dcterms:W3CDTF">2018-07-02T08:13:48Z</dcterms:modified>
  <cp:revision>871</cp:revision>
  <dc:subject/>
  <dc:title>Free PPT Backgrounds</dc:title>
</cp:coreProperties>
</file>